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65C-5B6E-49BF-8700-4E776AC7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288-5298-4068-BABE-0446B48D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8C6A-4E90-4B35-BF03-C833BDBF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D5E-C95E-476A-903A-3A1F32C9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4DB8-FA6A-4AD8-BD0A-137E7CAA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51CB-EA12-4222-A893-511A3F5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898-9861-42CE-B233-0816AF29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2AC4-FC0E-4761-98EC-BCBF0AE7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C589-180C-4C59-A688-9A28C2BF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3D29-7558-45F1-AC67-795C0B4A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2BB1-3762-46D5-97E1-6EF99FC1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E9D-11F3-40FC-A57E-7CECA7E3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A43D-28A4-4A2B-A0C9-EB3BE45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BF05-32D7-4899-AD17-A2CD788B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A181-3FCA-48F1-B085-B82CF504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C7CC-2373-4690-9C4C-B2A3F5E5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A8F8-EF21-4F3F-AD77-F304FF22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565-45BD-4EEF-B6FE-761E364F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FA1-D117-4800-9B81-A3236F1D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701-30CE-47E3-A6CD-E221F2B7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F4D-1797-4258-9F38-211F2C00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B87-2576-40B5-BFE1-47602F4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5CB-C966-438E-8555-1D51BF7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FDCC-6C67-46AB-88A1-32B81988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F0C-068B-4DE2-A046-39FC70EC4B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D42C-960A-4DED-94CF-227DAB3754B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743200" y="1523880"/>
            <a:ext cx="4114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 Ten Nou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81280" y="4952880"/>
            <a:ext cx="27529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: Emily Weingo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96320" y="2286000"/>
            <a:ext cx="371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#10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Par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47640" y="1905120"/>
            <a:ext cx="17658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#9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9:02:11Z</dcterms:created>
  <dc:creator>.</dc:creator>
  <dc:description/>
  <dc:language>en-US</dc:language>
  <cp:lastModifiedBy>.</cp:lastModifiedBy>
  <dcterms:modified xsi:type="dcterms:W3CDTF">2011-11-18T19:26:34Z</dcterms:modified>
  <cp:revision>2</cp:revision>
  <dc:subject/>
  <dc:title>Slide 1</dc:title>
</cp:coreProperties>
</file>